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22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6.wmf" ContentType="image/x-wmf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4F0-43C8-4101-B3F0-F31F8C58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342-99CC-474B-83DB-9BC6B350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C87-BFAA-44DE-BB83-455361FF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4CA-8D6E-4531-B76B-F2EC81B2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C64-E78C-42F4-AAD1-C27B1870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0DF-B770-4A80-857A-08067EC6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E06-6E35-4EF4-835A-9B611550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8CA-6049-4000-A015-45C88382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3AF-A282-4FDB-B80C-4263D2C0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B3E-5D37-4202-B683-7B6F556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8E5-087F-4170-A13D-99E7383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24B-675B-4AC2-A603-7E49167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C074-F2BB-4BE7-96C1-ABD5F2614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ламины    пшеницы  и  ячменя: генетика, полиморфизм   и  использование в научных исследованиях и практических разрабо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6000" y="4869000"/>
            <a:ext cx="892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удрявцев А.М., Драгович А.Ю., Лялина Е.В., Мельникова Н.В., Поморцев А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69228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ститут общей генетики им. Н.И. Вавилова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43040" cy="719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5280" y="5950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6 апреля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259560"/>
            <a:ext cx="8058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енетическое сходство по Нею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( r )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ля групп сортов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ягкой пшеницы, созданных в различных регионах мира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56000" y="907920"/>
            <a:ext cx="4060800" cy="4897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71640" y="609300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тическое сходство для наиболее удаленных групп по Нею составляет 0,256. Генетическое сходство для сортов бывшего СССР (исключая Зерноград) составляет 0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пространение аллелей глиадинкодирующего локуса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Gli-A1</a:t>
            </a:r>
            <a:r>
              <a:rPr b="1" i="1" lang="en-US" sz="1800" spc="-1" strike="noStrike" baseline="30000">
                <a:solidFill>
                  <a:srgbClr val="0000cc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староместных образцах твердых пшениц Болг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540072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108000" y="4797360"/>
          <a:ext cx="7705800" cy="1751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797360"/>
                    <a:ext cx="770580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859280" y="5013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5084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та аллеля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li-A1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ртах бывшего СССР 0,6 а в сортах стран средиземноморья 0,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астоты встречаемости аллелей глиадинкодирующих локусов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l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 и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li 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 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 в различных природно-климатических з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13640" cy="3600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9640" y="5805360"/>
            <a:ext cx="81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рт 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Безостая 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меет аллели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li-A2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-D2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Сорт </a:t>
            </a:r>
            <a:r>
              <a:rPr b="0" lang="ru-RU" sz="1200" spc="-1" strike="noStrike">
                <a:solidFill>
                  <a:srgbClr val="6666ff"/>
                </a:solidFill>
                <a:latin typeface="Arial"/>
              </a:rPr>
              <a:t>Мироновская 8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меет аллели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li-A2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li-D2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ия по частотам встречаемости этих аллелей в разных климатических зонах статистически достове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1222200"/>
            <a:ext cx="8066160" cy="5559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89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ластеры совокупностей сортов ярового ячменя из 25 природно-сельскохозяй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венных провинций бывшего СССР, полученные на осно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чета генетических расстояний по аллелям локусов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Hrd A, Hrd B, Hrd F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( 226 сортов за 62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енетическое разнообразие современных селекционных сортов в разных регионах мира в процессе сортосмены остается примерно на одном уровне, однако оно существенно ниже, чем разнообразие старо-местных форм из тех же реги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явлены четкие генетические различия между сортами, возделываемыми в разных географических и природно-сельскохозяйственных зон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но, что эти различия могут определяться, как культурно-историческими так и климатическими факто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Благодарю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4167000" cy="647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52480" y="304920"/>
            <a:ext cx="2530440" cy="612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67160" y="733320"/>
            <a:ext cx="676080" cy="569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057400" y="1157400"/>
            <a:ext cx="309600" cy="376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389400" y="2843280"/>
            <a:ext cx="26820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066680" y="685800"/>
            <a:ext cx="968400" cy="5683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498680" cy="513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95680" y="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Глиадин пше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33520"/>
            <a:ext cx="403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иадин пшеницы - очень полиморфная фракция запасных белков. Тотальный глиадин, экстрагированный из одного зерна, можно разделить методом одномерного электрофореза на более чем 20 индивидуальных компон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25909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ждый компонент контролируется отдельным глиадин-кодирующим геном, но все эти гены собраны в шесть кластеров, локализованных на хромосомах 1A, 1B, 1D, 6A, 6B, 6D. Из за тесного сцепления генов в кластере, все компоненты глиадина, контролируемые генами одного локуса всегда наследуются вместе, как единый Менделевский призн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54864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е группы сцепленно-наследующихся компонентов были названы блоками компонентов глиа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28800" y="884160"/>
          <a:ext cx="6248520" cy="453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884160"/>
                    <a:ext cx="62485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308240" y="5529240"/>
          <a:ext cx="7226280" cy="1254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08240" y="5529240"/>
                    <a:ext cx="72262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70680" y="264960"/>
            <a:ext cx="82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Генетический контроль электрофоретических компонентов горде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и запись их генетических форм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28840" y="533412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876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638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95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2480" y="18907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rd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2120" y="227160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rd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120" y="42530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rd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2120" y="463392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rd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2120" y="501480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rd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2480" y="539604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rd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2120" y="58532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rd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9000" y="838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1760" y="31860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,6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46280" y="623880"/>
            <a:ext cx="74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рагмент каталога вариантов блоков компонентов гордеин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нтролируемых аллелями локусов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rd A, Hrd B, Hrd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585800"/>
          <a:ext cx="7848720" cy="199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585800"/>
                    <a:ext cx="78487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066680" y="3429000"/>
          <a:ext cx="7239240" cy="1698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3429000"/>
                    <a:ext cx="723924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7080" y="274320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RD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7080" y="411480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RD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7800" y="4572000"/>
            <a:ext cx="8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RD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Каталог аллельных вариантов блоков компонентов глиадина, контролируемых у мягкой пшеницы хромосомами 1А и 1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92360" y="1197000"/>
            <a:ext cx="56163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менение запасных белков, как генетических маркеров в различных областях научной и хозяйственной деятельности, связанных с использованием или изучением пшеницы и ячменя.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197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2682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Идентификация генотип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8954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Изучение</a:t>
            </a:r>
            <a:r>
              <a:rPr b="1" lang="ru-RU" sz="16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генетической структуры гетерогенных</a:t>
            </a:r>
            <a:r>
              <a:rPr b="1" lang="ru-RU" sz="16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со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4382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Определение</a:t>
            </a:r>
            <a:r>
              <a:rPr b="1" lang="ru-RU" sz="16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чужеродных примесей в сорте и его сортовая прочис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27672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Оптимизация сохранения коллекций </a:t>
            </a: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ex sit</a:t>
            </a:r>
            <a:r>
              <a:rPr b="1" i="1" lang="en-US" sz="1600" spc="-1" strike="noStrike">
                <a:solidFill>
                  <a:srgbClr val="993366"/>
                </a:solidFill>
                <a:latin typeface="Arial"/>
              </a:rPr>
              <a:t>u </a:t>
            </a: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и</a:t>
            </a:r>
            <a:r>
              <a:rPr b="1" i="1" lang="en-US" sz="1600" spc="-1" strike="noStrike">
                <a:solidFill>
                  <a:srgbClr val="993366"/>
                </a:solidFill>
                <a:latin typeface="Arial"/>
              </a:rPr>
              <a:t> on f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733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Изучение и описание биоразнообразия и генетической эрозии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1911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Изучение гено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7150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Филогенетические исследования и изучение родослов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77336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Проведение оценок сортовой чистоты и сортового соответствия партий семя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596360" y="3429000"/>
            <a:ext cx="1333440" cy="2981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466092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Использование в селекционной практике для маркирования генов хозяйственно-значимых признаков. Подбора родительских пар, поиска доноров. Получения однородного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4771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332000" y="765000"/>
          <a:ext cx="5935680" cy="252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765000"/>
                    <a:ext cx="593568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700360" y="3860640"/>
            <a:ext cx="3603600" cy="2670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1231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енетическое разнообразие сортов мягкой пшеницы, оцененное по Нею, в Европе, Канаде и Австра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6200" y="1486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280" y="130176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328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Динамика изменения генетического разнообразия  сортов мягкой пшеницы районированных во Франции в период с 1945 по 1992 г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645336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cc"/>
                </a:solidFill>
                <a:latin typeface="Arial"/>
              </a:rPr>
              <a:t>(Metakovsky, Branlard,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68360" y="1916280"/>
          <a:ext cx="8316720" cy="4201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831672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68360" y="476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астоты аллелей глиадинкодирующих генов у отечественных сортов твердой пшеницы по годам их районирования. Индекс генетического разнообразия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ля каждого локуса, по группам сортов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Частоты встречаемости аллелей глиадинкодирующих локусов в староместных и современных сортах озимой пшеницы Нечерноземной пол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685000" cy="3786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5661000"/>
            <a:ext cx="856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шести глиадинкодирующим локусам в местных сортах (1922-1939гг.) обнаружено 54 аллеля, в современных сортах (1991-2006гг.) – 28 алл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следовано 20 местных сортов 1922-1939гг. и 17 сортов, районированных с 1991 по 2006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енетическая гетерогенность местных сортов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Н = 0,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современных сортов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Н = 0,4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40:29Z</dcterms:created>
  <dc:creator>Alexander Kudryavtsev</dc:creator>
  <dc:description/>
  <dc:language>en-US</dc:language>
  <cp:lastModifiedBy>Alexander Kudryavtsev</cp:lastModifiedBy>
  <dcterms:modified xsi:type="dcterms:W3CDTF">2007-04-02T09:27:57Z</dcterms:modified>
  <cp:revision>21</cp:revision>
  <dc:subject/>
  <dc:title>Проламины  пшеницы и ячменя: генетика, полиморфизм и использование в научных исследованиях и практических разработках.</dc:title>
</cp:coreProperties>
</file>