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D57-AEC5-4075-9F35-FA99B25D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696-6F11-4993-8EB4-A7B8004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8FC-1E0C-4120-919A-7AA2C899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8F5-2EDA-44AA-AE88-99118D2D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81B-AC11-4A85-8739-CE4C2DE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FA6-83EE-405A-88B1-727FB069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709-E017-4D9D-A71F-8D15B8B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751-F205-4082-966E-144744E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59B-BBE8-4F4C-B163-B571A45D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23E-1788-486D-A438-A38DBFB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D16-C4B0-4656-A7DB-C33DF9A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CD0-A4E1-4B4A-997C-62FF4A4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B12-A399-4737-B88F-B60EA87F3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0386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морфизм и генетический контроль секалина ржи Использование в анализе генофонда и селекци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ева Т.И.,  Войлоков А.В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генофонда ржи по спектрам маркерного белка – секалина в течение длительного времени проводился под непосредственным руководством академика В.Г.Конарева  при участии ст. научн.сотр. Пеневой Т.И., аспирантов Поддубной И.Ф., Хмыль Т.О., инженеров Мартыненко Н.М., Тимофеевой Г.И. и в тесном сотрудничестве с отделом серых хлеб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обылянский В.Д.), кафедрой генетики и селекции С-Петербургского Университета (Смирнов В.Г., Войлоков А.В.) и рядом селекцентров бывшего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363760" y="333360"/>
          <a:ext cx="447048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3760" y="333360"/>
                    <a:ext cx="44704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87680" y="260280"/>
          <a:ext cx="392436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260280"/>
                    <a:ext cx="39243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9680" y="692280"/>
            <a:ext cx="88171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форез секалинов даёт возможность путём позернового анали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ять внутрисортовую изменчивость, определять состав популя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авливать типичность образца, оценивать межсортовые раз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ипам спектра секалина, паспортизировать сорта и инбредные ли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в целом регистрировать генофонд эт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е важны для сохранения оригинальности сортов ржи в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одства и при репродукции, а также для правовой защиты осо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ных  образцов. Результаты свидетельствуют о необходимости бо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го использования белковых маркеров в селекции и семеновод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жи и других зл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66920" y="0"/>
            <a:ext cx="64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549360"/>
          <a:ext cx="8641800" cy="5687640"/>
        </p:xfrm>
        <a:graphic>
          <a:graphicData uri="http://schemas.openxmlformats.org/drawingml/2006/table">
            <a:tbl>
              <a:tblPr/>
              <a:tblGrid>
                <a:gridCol w="2880720"/>
                <a:gridCol w="3230280"/>
                <a:gridCol w="2530800"/>
              </a:tblGrid>
              <a:tr h="13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 сека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с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 1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“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 1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“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2320"/>
            <a:ext cx="8569080" cy="67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9080"/>
            <a:ext cx="777528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09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0:42:50Z</dcterms:created>
  <dc:creator>perchuk</dc:creator>
  <dc:description/>
  <dc:language>en-US</dc:language>
  <cp:lastModifiedBy>Andrew Omelchenko</cp:lastModifiedBy>
  <dcterms:modified xsi:type="dcterms:W3CDTF">2007-05-11T14:46:24Z</dcterms:modified>
  <cp:revision>6</cp:revision>
  <dc:subject/>
  <dc:title>Слайд 1</dc:title>
</cp:coreProperties>
</file>