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wmf" ContentType="image/x-wmf"/>
  <Override PartName="/ppt/media/image17.wmf" ContentType="image/x-wmf"/>
  <Override PartName="/ppt/media/image15.png" ContentType="image/png"/>
  <Override PartName="/ppt/media/image14.jpeg" ContentType="image/jpeg"/>
  <Override PartName="/ppt/media/image1.jpeg" ContentType="image/jpeg"/>
  <Override PartName="/ppt/media/image4.png" ContentType="image/png"/>
  <Override PartName="/ppt/media/image6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ED28-091E-435E-AFE8-AC845F74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27BD-9D8A-4036-B153-E3D6BF53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167C-8075-45F6-899E-D4439F60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958D-CF84-488C-B3C6-18C26B37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681F-C228-44AB-9D85-8B865986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20D3-6393-432B-B096-E59BDA07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31D9-8AD5-4DD3-97EA-258E6E5B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C046-2048-4096-92F9-63A31A2F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B922-C627-4121-B8A7-7C0607A9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BCEF-5123-4EAD-8BF6-70407D85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553B-BA6F-4120-B1AD-C5F58771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8056-9563-4DE0-8B74-E1D17336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8011-04A2-49D5-B5E0-A13ABEBCC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Использование молекулярных маркеров в селекции, сортоиспытании и семеноводстве зерновых: результаты и перспективы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3048120"/>
            <a:ext cx="8381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80044"/>
                </a:solidFill>
                <a:latin typeface="Arial"/>
              </a:rPr>
              <a:t>Абугалиева А.И.1,2., Абугалиева С.И.3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80044"/>
                </a:solidFill>
                <a:latin typeface="Arial"/>
              </a:rPr>
              <a:t>Туруспеков Е.К.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. НПЦ земледелия и растениеводства, Алмалыб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2. Государственная комиссия по сортоиспытанию МСХ Республики Казахст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3. Институт Биологии и Биотехнологии растений НБЦ МОН РК, Алматы, Казахст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«40 лет молекулярном биологическим исследованиям генетических ресурсов растений в ВИРе» (3-6 апреля, 2007г., (Санкт-Петербург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a50f2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514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798480" y="304920"/>
          <a:ext cx="7591320" cy="1596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8480" y="304920"/>
                    <a:ext cx="7591320" cy="15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885960" y="2511360"/>
          <a:ext cx="7561080" cy="36864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5960" y="2511360"/>
                    <a:ext cx="75610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124080" y="0"/>
          <a:ext cx="601992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0"/>
                    <a:ext cx="601992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885960" y="3629160"/>
          <a:ext cx="8127720" cy="36716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5960" y="3629160"/>
                    <a:ext cx="812772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0ca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26028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90ec7"/>
                </a:solidFill>
                <a:latin typeface="Times New Roman Cyr"/>
              </a:rPr>
              <a:t>Использование молекулярных маркеров в селекции пшеницы на ка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42920" y="2708280"/>
            <a:ext cx="3745080" cy="337320"/>
          </a:xfrm>
          <a:prstGeom prst="rect">
            <a:avLst/>
          </a:prstGeom>
          <a:solidFill>
            <a:srgbClr val="e0bde1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90ec7"/>
                </a:solidFill>
                <a:uFillTx/>
                <a:latin typeface="Times New Roman Cyr"/>
              </a:rPr>
              <a:t>Выделение генотипов, биотип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907920"/>
            <a:ext cx="4392360" cy="1441440"/>
          </a:xfrm>
          <a:prstGeom prst="wedgeRoundRectCallout">
            <a:avLst>
              <a:gd name="adj1" fmla="val 36879"/>
              <a:gd name="adj2" fmla="val 67842"/>
              <a:gd name="adj3" fmla="val 16667"/>
            </a:avLst>
          </a:prstGeom>
          <a:solidFill>
            <a:srgbClr val="e0bd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0ec7"/>
                </a:solidFill>
                <a:latin typeface="Times New Roman Cyr"/>
              </a:rPr>
              <a:t>Состав компонентов глиадина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0ec7"/>
                </a:solidFill>
                <a:latin typeface="Times New Roman Cyr"/>
              </a:rPr>
              <a:t>Состав</a:t>
            </a:r>
            <a:r>
              <a:rPr b="1" lang="ru-RU" sz="1600" spc="-1" strike="noStrike">
                <a:solidFill>
                  <a:srgbClr val="000000"/>
                </a:solidFill>
                <a:latin typeface="Times New Roman Cyr"/>
              </a:rPr>
              <a:t> </a:t>
            </a:r>
            <a:r>
              <a:rPr b="1" lang="ru-RU" sz="1600" spc="-1" strike="noStrike">
                <a:solidFill>
                  <a:srgbClr val="090ec7"/>
                </a:solidFill>
                <a:latin typeface="Times New Roman Cyr"/>
              </a:rPr>
              <a:t>субъединиц глютенина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0ec7"/>
                </a:solidFill>
                <a:latin typeface="Times New Roman Cyr"/>
              </a:rPr>
              <a:t>Аллели энзим кодирующих локусов</a:t>
            </a:r>
            <a:r>
              <a:rPr b="1" lang="ru-RU" sz="1600" spc="-1" strike="noStrike">
                <a:solidFill>
                  <a:srgbClr val="090ec7"/>
                </a:solidFill>
                <a:latin typeface="Times New Roman Cyr"/>
              </a:rPr>
              <a:t> </a:t>
            </a:r>
            <a:r>
              <a:rPr b="1" lang="en-US" sz="1600" spc="-1" strike="noStrike">
                <a:solidFill>
                  <a:srgbClr val="090ec7"/>
                </a:solidFill>
                <a:latin typeface="Times New Roman Cyr"/>
              </a:rPr>
              <a:t>  </a:t>
            </a:r>
            <a:r>
              <a:rPr b="1" lang="ru-RU" sz="1600" spc="-1" strike="noStrike">
                <a:solidFill>
                  <a:srgbClr val="090ec7"/>
                </a:solidFill>
                <a:latin typeface="Times New Roman Cyr"/>
              </a:rPr>
              <a:t>(</a:t>
            </a:r>
            <a:r>
              <a:rPr b="1" lang="ru-RU" sz="1400" spc="-1" strike="noStrike">
                <a:solidFill>
                  <a:srgbClr val="090ec7"/>
                </a:solidFill>
                <a:latin typeface="Times New Roman Cyr"/>
              </a:rPr>
              <a:t>β-Amy, </a:t>
            </a:r>
            <a:r>
              <a:rPr b="1" lang="en-US" sz="1400" spc="-1" strike="noStrike">
                <a:solidFill>
                  <a:srgbClr val="090ec7"/>
                </a:solidFill>
                <a:latin typeface="Times New Roman Cyr"/>
              </a:rPr>
              <a:t>α-</a:t>
            </a:r>
            <a:r>
              <a:rPr b="1" lang="ru-RU" sz="1400" spc="-1" strike="noStrike">
                <a:solidFill>
                  <a:srgbClr val="090ec7"/>
                </a:solidFill>
                <a:latin typeface="Times New Roman Cyr"/>
              </a:rPr>
              <a:t>Amy, </a:t>
            </a:r>
            <a:r>
              <a:rPr b="1" lang="en-US" sz="1400" spc="-1" strike="noStrike">
                <a:solidFill>
                  <a:srgbClr val="090ec7"/>
                </a:solidFill>
                <a:latin typeface="Times New Roman Cyr"/>
              </a:rPr>
              <a:t>Prx, Est 5, Pgm, Mdh 1, etc</a:t>
            </a:r>
            <a:r>
              <a:rPr b="1" lang="en-US" sz="1600" spc="-1" strike="noStrike">
                <a:solidFill>
                  <a:srgbClr val="090ec7"/>
                </a:solidFill>
                <a:latin typeface="Times New Roman Cyr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0ec7"/>
                </a:solidFill>
                <a:latin typeface="Times New Roman Cyr"/>
              </a:rPr>
              <a:t>ДНК-марк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3645000"/>
            <a:ext cx="5113080" cy="27417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buClr>
                <a:srgbClr val="e836e4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Генетическая идентификация и  паспортизация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    </a:t>
            </a:r>
            <a:r>
              <a:rPr b="1" lang="en-US" sz="1400" spc="-1" strike="noStrike">
                <a:solidFill>
                  <a:srgbClr val="003399"/>
                </a:solidFill>
                <a:latin typeface="Times New Roman Cyr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сортов</a:t>
            </a:r>
            <a:r>
              <a:rPr b="0" lang="ru-RU" sz="1400" spc="-1" strike="noStrike">
                <a:solidFill>
                  <a:srgbClr val="003399"/>
                </a:solidFill>
                <a:latin typeface="Times New Roman Cy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buClr>
                <a:srgbClr val="e836e4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imes New Roman Cyr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Подбор родительских пар для гибрид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buClr>
                <a:srgbClr val="e836e4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imes New Roman Cyr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Аналитическая селек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e836e4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 Cyr"/>
              </a:rPr>
              <a:t> 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Доноры хозяйственно ценных признаков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   </a:t>
            </a:r>
            <a:r>
              <a:rPr b="1" lang="en-US" sz="1400" spc="-1" strike="noStrike">
                <a:solidFill>
                  <a:srgbClr val="003399"/>
                </a:solidFill>
                <a:latin typeface="Times New Roman Cyr"/>
              </a:rPr>
              <a:t> 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и свой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buClr>
                <a:srgbClr val="e836e4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 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Моделирование структуры с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buClr>
                <a:srgbClr val="e836e4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 Cyr"/>
              </a:rPr>
              <a:t> 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Контроль воспроизводства сортов-популя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e836e4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 Cyr"/>
              </a:rPr>
              <a:t> 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Элиминация генотипов, создание улучшенно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    </a:t>
            </a:r>
            <a:r>
              <a:rPr b="1" lang="en-US" sz="1400" spc="-1" strike="noStrike">
                <a:solidFill>
                  <a:srgbClr val="003399"/>
                </a:solidFill>
                <a:latin typeface="Times New Roman Cyr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эли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e836e4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 Cyr"/>
              </a:rPr>
              <a:t>  </a:t>
            </a:r>
            <a:r>
              <a:rPr b="1" lang="kk-KZ" sz="1400" spc="-1" strike="noStrike">
                <a:solidFill>
                  <a:srgbClr val="003399"/>
                </a:solidFill>
                <a:latin typeface="Times New Roman Cyr"/>
              </a:rPr>
              <a:t>В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ыявление чистоты и подлинности сортового </a:t>
            </a:r>
            <a:br>
              <a:rPr sz="1400"/>
            </a:b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    </a:t>
            </a:r>
            <a:r>
              <a:rPr b="1" lang="en-US" sz="1400" spc="-1" strike="noStrike">
                <a:solidFill>
                  <a:srgbClr val="003399"/>
                </a:solidFill>
                <a:latin typeface="Times New Roman Cyr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и семенного материала</a:t>
            </a:r>
            <a:r>
              <a:rPr b="1" lang="ru-RU" sz="1400" spc="-1" strike="noStrike">
                <a:solidFill>
                  <a:srgbClr val="090ec7"/>
                </a:solidFill>
                <a:latin typeface="Times New Roman Cyr"/>
              </a:rPr>
              <a:t> </a:t>
            </a:r>
            <a:r>
              <a:rPr b="1" lang="en-US" sz="1400" spc="-1" strike="noStrike">
                <a:solidFill>
                  <a:srgbClr val="090ec7"/>
                </a:solidFill>
                <a:latin typeface="Times New Roman Cyr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2196000" y="3285000"/>
            <a:ext cx="360360" cy="216000"/>
          </a:xfrm>
          <a:custGeom>
            <a:avLst/>
            <a:gdLst>
              <a:gd name="textAreaLeft" fmla="*/ 56160 w 360360"/>
              <a:gd name="textAreaRight" fmla="*/ 315360 w 360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19640" y="1413000"/>
            <a:ext cx="1800360" cy="720720"/>
          </a:xfrm>
          <a:prstGeom prst="wedgeEllipseCallout">
            <a:avLst>
              <a:gd name="adj1" fmla="val 42240"/>
              <a:gd name="adj2" fmla="val 110574"/>
            </a:avLst>
          </a:prstGeom>
          <a:solidFill>
            <a:srgbClr val="e0bd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ec7"/>
                </a:solidFill>
                <a:latin typeface="Times New Roman Cyr"/>
              </a:rPr>
              <a:t>Марк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64360" y="1341360"/>
            <a:ext cx="1800360" cy="863640"/>
          </a:xfrm>
          <a:prstGeom prst="wedgeEllipseCallout">
            <a:avLst>
              <a:gd name="adj1" fmla="val -44620"/>
              <a:gd name="adj2" fmla="val 90439"/>
            </a:avLst>
          </a:prstGeom>
          <a:solidFill>
            <a:srgbClr val="e0bd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90ec7"/>
                </a:solidFill>
                <a:latin typeface="Times New Roman Cyr"/>
              </a:rPr>
              <a:t>Группы сцеп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6732000" y="3068280"/>
            <a:ext cx="719280" cy="287640"/>
          </a:xfrm>
          <a:custGeom>
            <a:avLst/>
            <a:gdLst>
              <a:gd name="textAreaLeft" fmla="*/ 112320 w 719280"/>
              <a:gd name="textAreaRight" fmla="*/ 623160 w 719280"/>
              <a:gd name="textAreaTop" fmla="*/ 76320 h 287640"/>
              <a:gd name="textAreaBottom" fmla="*/ 21132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728"/>
                </a:moveTo>
                <a:lnTo>
                  <a:pt x="15449" y="5728"/>
                </a:lnTo>
                <a:lnTo>
                  <a:pt x="15449" y="0"/>
                </a:lnTo>
                <a:lnTo>
                  <a:pt x="21600" y="10800"/>
                </a:lnTo>
                <a:lnTo>
                  <a:pt x="15449" y="21600"/>
                </a:lnTo>
                <a:lnTo>
                  <a:pt x="15449" y="15872"/>
                </a:lnTo>
                <a:lnTo>
                  <a:pt x="3375" y="15872"/>
                </a:lnTo>
                <a:close/>
              </a:path>
              <a:path w="21600" h="21600">
                <a:moveTo>
                  <a:pt x="0" y="5728"/>
                </a:moveTo>
                <a:lnTo>
                  <a:pt x="675" y="5728"/>
                </a:lnTo>
                <a:lnTo>
                  <a:pt x="675" y="15872"/>
                </a:lnTo>
                <a:lnTo>
                  <a:pt x="0" y="15872"/>
                </a:lnTo>
                <a:close/>
              </a:path>
              <a:path w="21600" h="21600">
                <a:moveTo>
                  <a:pt x="1350" y="5728"/>
                </a:moveTo>
                <a:lnTo>
                  <a:pt x="2700" y="5728"/>
                </a:lnTo>
                <a:lnTo>
                  <a:pt x="2700" y="15872"/>
                </a:lnTo>
                <a:lnTo>
                  <a:pt x="1350" y="15872"/>
                </a:lnTo>
                <a:close/>
              </a:path>
            </a:pathLst>
          </a:cu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3789360"/>
            <a:ext cx="3384720" cy="1865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buClr>
                <a:srgbClr val="e836e4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a0fe2"/>
                </a:solidFill>
                <a:latin typeface="Times New Roman Cyr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Отбор генотипов по качеству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зер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e836e4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Тестирование и отбор из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сортопопуляций</a:t>
            </a:r>
            <a:r>
              <a:rPr b="1" lang="en-US" sz="1400" spc="-1" strike="noStrike">
                <a:solidFill>
                  <a:srgbClr val="003399"/>
                </a:solidFill>
                <a:latin typeface="Times New Roman Cyr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e836e4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Times New Roman Cyr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Идентификация и           картирование </a:t>
            </a:r>
            <a:r>
              <a:rPr b="1" lang="en-US" sz="1400" spc="-1" strike="noStrike">
                <a:solidFill>
                  <a:srgbClr val="003399"/>
                </a:solidFill>
                <a:latin typeface="Times New Roman Cyr"/>
              </a:rPr>
              <a:t>QTL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, связанных с устойчивостью, урожайностью и  качеством зер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0ca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907920"/>
            <a:ext cx="8748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0daf"/>
                </a:solidFill>
                <a:latin typeface="Arial"/>
              </a:rPr>
              <a:t>Корреляционные связи признаков</a:t>
            </a:r>
            <a:r>
              <a:rPr b="0" lang="en-US" sz="2400" spc="-1" strike="noStrike">
                <a:solidFill>
                  <a:srgbClr val="370da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70daf"/>
                </a:solidFill>
                <a:latin typeface="Arial"/>
              </a:rPr>
              <a:t>качества и молекулярных </a:t>
            </a:r>
            <a:br>
              <a:rPr sz="2400"/>
            </a:br>
            <a:r>
              <a:rPr b="1" lang="en-US" sz="2400" spc="-1" strike="noStrike">
                <a:solidFill>
                  <a:srgbClr val="370daf"/>
                </a:solidFill>
                <a:latin typeface="Arial"/>
              </a:rPr>
              <a:t> маркеров зерна твердой пше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413000"/>
          <a:ext cx="7848720" cy="5027400"/>
        </p:xfrm>
        <a:graphic>
          <a:graphicData uri="http://schemas.openxmlformats.org/drawingml/2006/table">
            <a:tbl>
              <a:tblPr/>
              <a:tblGrid>
                <a:gridCol w="3527640"/>
                <a:gridCol w="1584360"/>
                <a:gridCol w="792000"/>
                <a:gridCol w="1944720"/>
              </a:tblGrid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400fc9"/>
                          </a:solidFill>
                          <a:latin typeface="Arial"/>
                          <a:ea typeface="Times New Roman"/>
                        </a:rPr>
                        <a:t>Признаки качества зер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13680">
                      <a:solidFill>
                        <a:srgbClr val="5e51c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400fc9"/>
                          </a:solidFill>
                          <a:latin typeface="Arial"/>
                          <a:ea typeface="Times New Roman"/>
                        </a:rPr>
                        <a:t>Марке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5e51c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0fc9"/>
                          </a:solidFill>
                          <a:latin typeface="Arial"/>
                        </a:rPr>
                        <a:t>Хромосо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13680">
                      <a:solidFill>
                        <a:srgbClr val="5e51c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70daf"/>
                          </a:solidFill>
                          <a:latin typeface="Arial"/>
                          <a:ea typeface="Times New Roman"/>
                        </a:rPr>
                        <a:t>Коэффициент корреля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13680">
                      <a:solidFill>
                        <a:srgbClr val="5e51c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230e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8230e6"/>
                          </a:solidFill>
                          <a:latin typeface="Arial"/>
                          <a:ea typeface="Times New Roman"/>
                        </a:rPr>
                        <a:t>качество клейковин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230e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b20b8"/>
                          </a:solidFill>
                          <a:latin typeface="Arial"/>
                          <a:ea typeface="Times New Roman"/>
                        </a:rPr>
                        <a:t>β-Amy-2-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b20b8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0fc9"/>
                          </a:solidFill>
                          <a:latin typeface="Arial"/>
                          <a:ea typeface="Times New Roman"/>
                        </a:rPr>
                        <a:t>r = –0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ba80c"/>
                          </a:solidFill>
                          <a:latin typeface="Arial"/>
                          <a:ea typeface="Times New Roman"/>
                        </a:rPr>
                        <a:t>SSR247-15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ba80c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0fc9"/>
                          </a:solidFill>
                          <a:latin typeface="Arial"/>
                          <a:ea typeface="Times New Roman"/>
                        </a:rPr>
                        <a:t>r = 0,5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230e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8230e6"/>
                          </a:solidFill>
                          <a:latin typeface="Arial"/>
                          <a:ea typeface="Times New Roman"/>
                        </a:rPr>
                        <a:t>седиментация</a:t>
                      </a:r>
                      <a:r>
                        <a:rPr b="1" lang="en-US" sz="2200" spc="-1" strike="noStrike">
                          <a:solidFill>
                            <a:srgbClr val="8230e6"/>
                          </a:solidFill>
                          <a:latin typeface="Arial"/>
                          <a:ea typeface="Times New Roman"/>
                        </a:rPr>
                        <a:t> (</a:t>
                      </a:r>
                      <a:r>
                        <a:rPr b="1" lang="en-US" sz="2200" spc="-1" strike="noStrike">
                          <a:solidFill>
                            <a:srgbClr val="8230e6"/>
                          </a:solidFill>
                          <a:latin typeface="Arial"/>
                          <a:ea typeface="Times New Roman"/>
                        </a:rPr>
                        <a:t>5D</a:t>
                      </a:r>
                      <a:r>
                        <a:rPr b="1" lang="en-US" sz="2200" spc="-1" strike="noStrike">
                          <a:solidFill>
                            <a:srgbClr val="8230e6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230e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b20b8"/>
                          </a:solidFill>
                          <a:latin typeface="Arial"/>
                          <a:ea typeface="Times New Roman"/>
                        </a:rPr>
                        <a:t>β-Amy-2-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b20b8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0fc9"/>
                          </a:solidFill>
                          <a:latin typeface="Arial"/>
                          <a:ea typeface="Times New Roman"/>
                        </a:rPr>
                        <a:t>r = 0,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b2d75"/>
                          </a:solidFill>
                          <a:latin typeface="Arial"/>
                          <a:ea typeface="Times New Roman"/>
                        </a:rPr>
                        <a:t>Est-5-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b2d75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0fc9"/>
                          </a:solidFill>
                          <a:latin typeface="Arial"/>
                          <a:ea typeface="Times New Roman"/>
                        </a:rPr>
                        <a:t>r = 0,5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ba80c"/>
                          </a:solidFill>
                          <a:latin typeface="Arial"/>
                          <a:ea typeface="Times New Roman"/>
                        </a:rPr>
                        <a:t>SSR247-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ba80c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0fc9"/>
                          </a:solidFill>
                          <a:latin typeface="Arial"/>
                          <a:ea typeface="Times New Roman"/>
                        </a:rPr>
                        <a:t>r = 0,5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230e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8230e6"/>
                          </a:solidFill>
                          <a:latin typeface="Arial"/>
                          <a:ea typeface="Times New Roman"/>
                        </a:rPr>
                        <a:t>содержание каротиноидов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230e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b20b8"/>
                          </a:solidFill>
                          <a:latin typeface="Arial"/>
                          <a:ea typeface="Times New Roman"/>
                        </a:rPr>
                        <a:t>β-Amy-2-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b20b8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0fc9"/>
                          </a:solidFill>
                          <a:latin typeface="Arial"/>
                          <a:ea typeface="Times New Roman"/>
                        </a:rPr>
                        <a:t>r = 0,8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230e6"/>
                          </a:solidFill>
                          <a:latin typeface="Arial"/>
                          <a:ea typeface="Times New Roman"/>
                        </a:rPr>
                        <a:t>Mdh-1-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230e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0fc9"/>
                          </a:solidFill>
                          <a:latin typeface="Arial"/>
                          <a:ea typeface="Times New Roman"/>
                        </a:rPr>
                        <a:t>r = 0,5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230e6"/>
                          </a:solidFill>
                          <a:latin typeface="Arial"/>
                          <a:ea typeface="Times New Roman"/>
                        </a:rPr>
                        <a:t>Mdh-1-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230e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0fc9"/>
                          </a:solidFill>
                          <a:latin typeface="Arial"/>
                          <a:ea typeface="Times New Roman"/>
                        </a:rPr>
                        <a:t>r = 0,6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230e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8230e6"/>
                          </a:solidFill>
                          <a:latin typeface="Arial"/>
                          <a:ea typeface="Times New Roman"/>
                        </a:rPr>
                        <a:t>стекловид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0fc9"/>
                          </a:solidFill>
                          <a:latin typeface="Arial"/>
                          <a:ea typeface="Times New Roman"/>
                        </a:rPr>
                        <a:t>Adh-1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0fc9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0fc9"/>
                          </a:solidFill>
                          <a:latin typeface="Arial"/>
                          <a:ea typeface="Times New Roman"/>
                        </a:rPr>
                        <a:t>r = 0,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230e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8230e6"/>
                          </a:solidFill>
                          <a:latin typeface="Arial"/>
                          <a:ea typeface="Times New Roman"/>
                        </a:rPr>
                        <a:t>твердозерность</a:t>
                      </a:r>
                      <a:r>
                        <a:rPr b="1" lang="en-US" sz="2200" spc="-1" strike="noStrike">
                          <a:solidFill>
                            <a:srgbClr val="8230e6"/>
                          </a:solidFill>
                          <a:latin typeface="Arial"/>
                          <a:ea typeface="Times New Roman"/>
                        </a:rPr>
                        <a:t> (</a:t>
                      </a:r>
                      <a:r>
                        <a:rPr b="1" lang="en-US" sz="2200" spc="-1" strike="noStrike">
                          <a:solidFill>
                            <a:srgbClr val="8230e6"/>
                          </a:solidFill>
                          <a:latin typeface="Arial"/>
                          <a:ea typeface="Times New Roman"/>
                        </a:rPr>
                        <a:t>5A, 5D</a:t>
                      </a:r>
                      <a:r>
                        <a:rPr b="1" lang="en-US" sz="2200" spc="-1" strike="noStrike">
                          <a:solidFill>
                            <a:srgbClr val="8230e6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b2d75"/>
                          </a:solidFill>
                          <a:latin typeface="Arial"/>
                          <a:ea typeface="Times New Roman"/>
                        </a:rPr>
                        <a:t>Est-5-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b2d75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0fc9"/>
                          </a:solidFill>
                          <a:latin typeface="Arial"/>
                          <a:ea typeface="Times New Roman"/>
                        </a:rPr>
                        <a:t>r = 0,5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230e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8230e6"/>
                          </a:solidFill>
                          <a:latin typeface="Arial"/>
                          <a:ea typeface="Times New Roman"/>
                        </a:rPr>
                        <a:t>натур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5e51c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b2d75"/>
                          </a:solidFill>
                          <a:latin typeface="Arial"/>
                          <a:ea typeface="Times New Roman"/>
                        </a:rPr>
                        <a:t>Est-5-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5e51c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b2d75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5e51c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0fc9"/>
                          </a:solidFill>
                          <a:latin typeface="Arial"/>
                          <a:ea typeface="Times New Roman"/>
                        </a:rPr>
                        <a:t>r =  – 0,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5e51c1"/>
                      </a:solidFill>
                    </a:lnL>
                    <a:lnR w="13680">
                      <a:solidFill>
                        <a:srgbClr val="5e51c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5e51c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396720" y="189000"/>
            <a:ext cx="22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d8b1ff"/>
                </a:solidFill>
                <a:latin typeface="Times New Roman Cyr"/>
              </a:rPr>
              <a:t>Твердая пшеница</a:t>
            </a:r>
            <a:r>
              <a:rPr b="1" i="1" lang="ru-RU" sz="2400" spc="-1" strike="noStrike">
                <a:solidFill>
                  <a:srgbClr val="d8b1ff"/>
                </a:solidFill>
                <a:latin typeface="Times New Roman Cy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41920" y="328680"/>
            <a:ext cx="8977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Организационные и правовые основы создания и охраны селекционных достиже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в Республике Казах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76480"/>
          <a:ext cx="9067680" cy="5489280"/>
        </p:xfrm>
        <a:graphic>
          <a:graphicData uri="http://schemas.openxmlformats.org/drawingml/2006/table">
            <a:tbl>
              <a:tblPr/>
              <a:tblGrid>
                <a:gridCol w="1447920"/>
                <a:gridCol w="1295280"/>
                <a:gridCol w="1905120"/>
                <a:gridCol w="1523880"/>
                <a:gridCol w="1676520"/>
                <a:gridCol w="1218960"/>
              </a:tblGrid>
              <a:tr h="1828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и-исполн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ложенные за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 завершения задач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вые основ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ческое обеспече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ка проведения экспертизы, исследований (отечественные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дународ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54000" rIns="36000" tIns="36000" bIns="36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гинатор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И, НПЦ МСХ РК (лаборатор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36000" tIns="36000" bIns="36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сор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36000" tIns="36000" bIns="36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Заявка на гос. сортоиспыт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отечеств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орайо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кт апробации семя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36000" tIns="36000" bIns="36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он «Об охране селекционных достижений»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он «О семеноводств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36000" tIns="36000" bIns="36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Ты, Методика Госкомиссии по сортоиспытанию с/х культур, Москва, 1981, Алматы, 20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36000" tIns="36000" bIns="360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20042"/>
                          </a:solidFill>
                          <a:latin typeface="Arial"/>
                        </a:rPr>
                        <a:t>Генетически модифицированные формы и сор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5640">
                <a:tc>
                  <a:txBody>
                    <a:bodyPr lIns="54000" rIns="36000" tIns="36000" bIns="36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ытател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ая комиссия по сортоиспытанию с/х культур МСХ РК: 70 ГС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36000" tIns="36000" bIns="36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ытание сортов на хозяйственную полезность (107 с/х культур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36000" tIns="36000" bIns="360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Государственный реестр селекционных достижений, допущенных к использованию на территории Р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36000" tIns="36000" bIns="36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он «об охране селекционных достижений» №422-1 от 13 июля 1999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36000" tIns="36000" bIns="36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ка Госкомисси по сортоиспытанию с/х культур, Алматы, 2002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36000" tIns="36000" bIns="36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0880">
                <a:tc>
                  <a:txBody>
                    <a:bodyPr lIns="54000" rIns="36000" tIns="36000" bIns="36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ГСУ + лаборато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36000" tIns="36000" bIns="36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ытание сортов на патентоспособ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36000" tIns="36000" bIns="36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алог национальных сортов-эталонов, </a:t>
                      </a:r>
                      <a:r>
                        <a:rPr b="0" lang="en-US" sz="1200" spc="-1" strike="noStrike">
                          <a:solidFill>
                            <a:srgbClr val="a20042"/>
                          </a:solidFill>
                          <a:latin typeface="Arial"/>
                        </a:rPr>
                        <a:t>Гос.реестр запантентованых сортов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азахстанских и иностранны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36000" tIns="36000" bIns="36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он «Об охране селекционых достижений», подзаконные акты, регламентирущие проведение технической экспертизы и выдачи патента. Закон «О семеноводств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36000" tIns="36000" bIns="360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20042"/>
                          </a:solidFill>
                          <a:latin typeface="Arial"/>
                        </a:rPr>
                        <a:t>Правила проведения экспертизы и испытаний сортов растений на патентоспособность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иказ МСХ РК №411 от 28.12.2001г. (согласован МОН РК -21.12.2001г; комитет по правам ИНСО МЮСТ РК №1790 от 07.03.02г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36000" tIns="36000" bIns="360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US-</a:t>
                      </a: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тест на отличимость,  однородность и стабильность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200" spc="-1" strike="noStrike">
                          <a:solidFill>
                            <a:srgbClr val="a20042"/>
                          </a:solidFill>
                          <a:latin typeface="Arial"/>
                        </a:rPr>
                        <a:t>UPOV</a:t>
                      </a:r>
                      <a:r>
                        <a:rPr b="0" lang="ru-RU" sz="1200" spc="-1" strike="noStrike">
                          <a:solidFill>
                            <a:srgbClr val="a20042"/>
                          </a:solidFill>
                          <a:latin typeface="Arial"/>
                        </a:rPr>
                        <a:t>, 1978. Электрофорез </a:t>
                      </a:r>
                      <a:r>
                        <a:rPr b="0" lang="en-US" sz="1200" spc="-1" strike="noStrike">
                          <a:solidFill>
                            <a:srgbClr val="a20042"/>
                          </a:solidFill>
                          <a:latin typeface="Arial"/>
                        </a:rPr>
                        <a:t>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6320" y="762120"/>
          <a:ext cx="8915400" cy="6046560"/>
        </p:xfrm>
        <a:graphic>
          <a:graphicData uri="http://schemas.openxmlformats.org/drawingml/2006/table">
            <a:tbl>
              <a:tblPr/>
              <a:tblGrid>
                <a:gridCol w="1752480"/>
                <a:gridCol w="1447920"/>
                <a:gridCol w="1523880"/>
                <a:gridCol w="2286000"/>
                <a:gridCol w="990720"/>
                <a:gridCol w="91440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оратория по качественной оценки с/х культур. Этапы производства растениеводства: исполнители, б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ытание качества сортов и их классификация по конечному типу использ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Список сортов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cc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шеница хлебопекарна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cc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шеница кондитерска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cc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ячмень пивоваренны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он «Об охране селекционных достижений», подзаконные акты, регламентирующие проведение технической экспертизы и выдачи патента. Закон «О семеноводстве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ГО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ное производство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сагроэкспертиза МСХ РК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оратори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райо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аст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нская и территориальные управления МСХ РК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качества семя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ция качества семян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  Акт полевой апробации (НИИ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. Аттестат на семе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. Удостоверение кондиционности семя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он «О семеноводств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ГО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20042"/>
                          </a:solidFill>
                          <a:latin typeface="Arial"/>
                        </a:rPr>
                        <a:t>UPOV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20042"/>
                          </a:solidFill>
                          <a:latin typeface="Arial"/>
                        </a:rPr>
                        <a:t>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ет в ГОС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товой чисто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тификация почв, удобрений. Агрохимслужба МСХ Р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почв на безопасность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, P,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, гуму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Картограмма, технология возделы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ГОСТы, СанП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отовка, хранение, переработ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порт Гос. И частные лаборатории аккреди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, сертификация, инспекция ка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Сертификат качеств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Сертификат соответ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он «О зерн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ГОСТ, СанП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20042"/>
                          </a:solidFill>
                          <a:latin typeface="Arial"/>
                        </a:rPr>
                        <a:t>I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57200" y="3049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родолжение табл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29160" y="635040"/>
            <a:ext cx="747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a50f2"/>
                </a:solidFill>
                <a:latin typeface="Arial"/>
              </a:rPr>
              <a:t>Использование молекулярных марке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a50f2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a50f2"/>
                </a:solidFill>
                <a:latin typeface="Arial"/>
              </a:rPr>
              <a:t>Госсортоиспыт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2362320"/>
            <a:ext cx="807696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дентификация новых сортов на предмет идентичности описанию, анализ однород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сударственная регистрация формулы в Базе Д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спорт сорта после трехлетнего испытания по критерию отличимости, однородности и стабильности (значимость для охраны прав на интеллектуальную  собственность  в рамках Закона РК «О селекционных достижениях» , «О семеноводстве» и конвенц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OV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304920"/>
            <a:ext cx="96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7a50f2"/>
                </a:solidFill>
                <a:latin typeface="Arial"/>
              </a:rPr>
              <a:t>Сравнительный анализ селекционного и семеновод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7a50f2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7a50f2"/>
                </a:solidFill>
                <a:latin typeface="Arial"/>
              </a:rPr>
              <a:t>процесса у пше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295280"/>
          <a:ext cx="8229600" cy="5166000"/>
        </p:xfrm>
        <a:graphic>
          <a:graphicData uri="http://schemas.openxmlformats.org/drawingml/2006/table">
            <a:tbl>
              <a:tblPr/>
              <a:tblGrid>
                <a:gridCol w="1828800"/>
                <a:gridCol w="2286000"/>
                <a:gridCol w="2209680"/>
                <a:gridCol w="19051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20042"/>
                          </a:solidFill>
                          <a:latin typeface="Arial"/>
                        </a:rPr>
                        <a:t>Критерий сходства, различия процес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20042"/>
                          </a:solidFill>
                          <a:latin typeface="Arial"/>
                        </a:rPr>
                        <a:t>Селек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20042"/>
                          </a:solidFill>
                          <a:latin typeface="Arial"/>
                        </a:rPr>
                        <a:t>Первичное семеноводства сорта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20042"/>
                          </a:solidFill>
                          <a:latin typeface="Arial"/>
                        </a:rPr>
                        <a:t>гибрид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20042"/>
                          </a:solidFill>
                          <a:latin typeface="Arial"/>
                        </a:rPr>
                        <a:t>чистолиней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Исходный матери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уляция гомозиготных и гетерозиготных особей (сибс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уляция гомозиготных особей: сибсов и близнецов, гетерозиготы исключают из популяц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окупность гомозиготных идентичных по генотипу особ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Происхождение изменчив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бинативна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ационна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ова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ов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одификационн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Типы изменчивости (Агаев, 198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ьная (гетерозиготы)                  Свободная (фенотипическ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рыт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нализирующие фон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отип (Мейстер, 193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ервы номоти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Виды изменчивости (Агаев, 1987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20042"/>
                          </a:solidFill>
                          <a:latin typeface="Arial"/>
                        </a:rPr>
                        <a:t>ГРУППОВ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20042"/>
                          </a:solidFill>
                          <a:latin typeface="Arial"/>
                        </a:rPr>
                        <a:t>ИНДИВИДУАЛЬ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20042"/>
                          </a:solidFill>
                          <a:latin typeface="Arial"/>
                        </a:rPr>
                        <a:t>НЕЗАВИСИМ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ая корреля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цепление и плейотропия генов)                                                        физиологические корреля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20042"/>
                          </a:solidFill>
                          <a:latin typeface="Arial"/>
                        </a:rPr>
                        <a:t>АДАПТИВ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20042"/>
                          </a:solidFill>
                          <a:latin typeface="Arial"/>
                        </a:rPr>
                        <a:t>НЕАДАПТИВ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9360" y="30492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одолжение табл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912960"/>
          <a:ext cx="8229600" cy="5414760"/>
        </p:xfrm>
        <a:graphic>
          <a:graphicData uri="http://schemas.openxmlformats.org/drawingml/2006/table">
            <a:tbl>
              <a:tblPr/>
              <a:tblGrid>
                <a:gridCol w="1828800"/>
                <a:gridCol w="2286000"/>
                <a:gridCol w="2209680"/>
                <a:gridCol w="1905120"/>
              </a:tblGrid>
              <a:tr h="35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20042"/>
                          </a:solidFill>
                          <a:latin typeface="Arial"/>
                        </a:rPr>
                        <a:t>Критерий сходства, различия процес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20042"/>
                          </a:solidFill>
                          <a:latin typeface="Arial"/>
                        </a:rPr>
                        <a:t>Селек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20042"/>
                          </a:solidFill>
                          <a:latin typeface="Arial"/>
                        </a:rPr>
                        <a:t>Первичное семеноводства сорта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20042"/>
                          </a:solidFill>
                          <a:latin typeface="Arial"/>
                        </a:rPr>
                        <a:t>гибрид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a20042"/>
                          </a:solidFill>
                          <a:latin typeface="Arial"/>
                        </a:rPr>
                        <a:t>чистолинейны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Цель отбора родоначальных генотип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явить уникальное сочетание неаллельных локусов локусов в организме (хоз-цен. асоциация ген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роизвести потомство уникальных гомозиготных генотипов в составе популяции в оптимальных частота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ножить близнецовые семь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Методы отбо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ьно-семейственный отбо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ьный и массовый позитивный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Объект отб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никальные трансгрессивные гомозиготные особи (по модели сор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окупности близнецовых гомозиготных линий в составе сибсов в оптимальных соотношениях (на основе маркеров родительских фор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опродуктивные, с хорошим качеством зерна, здоровые фенокопии близнецов (по эталону сорт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Объем выборки особ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растения, отвечающие мо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чет исходя из потребности в элитных семена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орка сибсовых серий зависит от генетической структуры оригинальной сортовой популя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е менее 100 растений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Испытание потом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-1, СП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П, ПСИ, КС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томники испытания 1,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3040" y="30492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одолжение табл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838080"/>
          <a:ext cx="8229600" cy="5497560"/>
        </p:xfrm>
        <a:graphic>
          <a:graphicData uri="http://schemas.openxmlformats.org/drawingml/2006/table">
            <a:tbl>
              <a:tblPr/>
              <a:tblGrid>
                <a:gridCol w="1828800"/>
                <a:gridCol w="2286000"/>
                <a:gridCol w="2209680"/>
                <a:gridCol w="1905120"/>
              </a:tblGrid>
              <a:tr h="1243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й сходств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ия процес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чное семеноводства сорта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брид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олиней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Фитометр (контроль, стандар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ные родительские ф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лоны морфобиотипов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йонированные  сор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перэлита или элита прошлых л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Особенность оценок в питомниках испытания потом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бор только гомогенных потомств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признакам модели  сорта из гетерогенных потомств проводят вторные отб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бсы, не выходящие за рамки альтернативной изменчивости родителей; гетерогенные потомства бракую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комплексу признаков эталона сорта; гетерогенные, больные потомства бракую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Генетическая структура совокупности растений, подлежащей дальнейшему размнож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могенные по признакам модели сорта, но несущие запас скрытой изменчивости, которую следует изучить до передачи  сорта в первичное семеновод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уляции сибсов с обоснованной оптимальной частото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окупность близнецовых линий, отвечающих эталону сор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16360" y="1052640"/>
            <a:ext cx="31082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лекулярные марк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00720" y="2060640"/>
            <a:ext cx="201636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-марк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916360" y="3429000"/>
            <a:ext cx="1944720" cy="1366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9640" y="3213000"/>
            <a:ext cx="1613160" cy="1944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580000" y="4149720"/>
            <a:ext cx="1727280" cy="1943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H="1">
            <a:off x="2410920" y="1628640"/>
            <a:ext cx="57636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1640" y="1628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1700280"/>
            <a:ext cx="27468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02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670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670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7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6440" y="2932200"/>
            <a:ext cx="180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2997360"/>
            <a:ext cx="1800360" cy="10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 Cyr"/>
              </a:rPr>
              <a:t>PCR маркер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</a:rPr>
              <a:t>RAPD, DAF, SSR, ISSR, AFLP, SAMPL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56720" y="3141720"/>
            <a:ext cx="7315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</a:rPr>
              <a:t>RF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04000" y="2637000"/>
            <a:ext cx="0" cy="27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2000" y="2565360"/>
            <a:ext cx="27468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404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44"/>
                </a:solidFill>
                <a:latin typeface="Times New Roman Cyr"/>
              </a:rPr>
              <a:t>Молекулярные марк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349360"/>
            <a:ext cx="1895400" cy="3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асные б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87640" y="2637000"/>
            <a:ext cx="194328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Изофер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>
            <a:lum contrast="24000"/>
          </a:blip>
          <a:stretch/>
        </p:blipFill>
        <p:spPr>
          <a:xfrm>
            <a:off x="7812000" y="3789360"/>
            <a:ext cx="90504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14400" y="3808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a50f2"/>
                </a:solidFill>
                <a:latin typeface="Arial"/>
              </a:rPr>
              <a:t>Использование алгоритмов и программных средств в исследованиях селекционных данных на качество зерн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28600" y="1143000"/>
          <a:ext cx="8763120" cy="5749920"/>
        </p:xfrm>
        <a:graphic>
          <a:graphicData uri="http://schemas.openxmlformats.org/drawingml/2006/table">
            <a:tbl>
              <a:tblPr/>
              <a:tblGrid>
                <a:gridCol w="2171880"/>
                <a:gridCol w="1628640"/>
                <a:gridCol w="3178080"/>
                <a:gridCol w="17845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20042"/>
                          </a:solidFill>
                          <a:latin typeface="Arial"/>
                        </a:rPr>
                        <a:t>Базы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20042"/>
                          </a:solidFill>
                          <a:latin typeface="Arial"/>
                        </a:rPr>
                        <a:t>Алгоритмы и программные 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20042"/>
                          </a:solidFill>
                          <a:latin typeface="Arial"/>
                        </a:rPr>
                        <a:t>Результаты примен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20042"/>
                          </a:solidFill>
                          <a:latin typeface="Arial"/>
                        </a:rPr>
                        <a:t>по объек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20042"/>
                          </a:solidFill>
                          <a:latin typeface="Arial"/>
                        </a:rPr>
                        <a:t>признак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Биохимические марке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терный анализ качественных признаков (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 K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родословной, классификация генотипов (генетическая), анализ сходства популяций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 наследования компонен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держание глиадина, глютенина, компонетов и субъединиц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 1,2 STAT, CLUST, FACTOR, RASCH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 оценки устойчивости генотипов к стрессовым фактора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ение групп сцепления компонентов и субъедини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Аминокислотный состав белков зер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, SEL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ификация и ранжирование генотипов по сбалансированност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ение групп сцепления компонентов и субъедини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Технологические показатели качества зерна, муки, теста и хлеб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 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, GENTAI, CLUST, FACTOR SEL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ение стабильности и пластичности генотипов по генетически детерминированным признакам качества, ранжирование генотипов по комплексу признаков с учетом нормы реакции по каждому из них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ение факторов каче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Урожайность и элементы продуктив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щения баз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3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4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4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5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+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RIKA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ZIM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OCON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гральная оценка генотипов на оптимальное сочетание селектируемых признаков, автоматизированный выбор технологии их возделывания, прогноз фенофаз развития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нозирование конкретных показателей качества зерн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ор информативных, лимитируемых приоритетных признаков в селекционных программах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5791320" y="4925880"/>
            <a:ext cx="2895480" cy="1932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066680" y="4824360"/>
            <a:ext cx="3048120" cy="2033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590920" y="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42"/>
                </a:solidFill>
                <a:latin typeface="Times New Roman"/>
              </a:rPr>
              <a:t>HARDNESS 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609480"/>
            <a:ext cx="3810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SKCS 41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ten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6094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NI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acific Scientific 42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114300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ardness Index  66                                 Hardness Index  8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752480" y="1523880"/>
            <a:ext cx="5562720" cy="1828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371600" y="34290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20         120                                                                -20             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Average:     92.02                                          Average:   25.0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441972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Std. Dev.:  18.57                                          Std.Dev.:  13.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4114800"/>
            <a:ext cx="8686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2.4% Soft  88.7% Hard  009%D     92.8%Soft  7.3% Hard 0.00%Duru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800600"/>
            <a:ext cx="87631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ID: 700 KZR  Class: &lt;&lt;&lt;</a:t>
            </a:r>
            <a:r>
              <a:rPr b="1" lang="ru-RU" sz="2300" spc="-1" strike="noStrike">
                <a:solidFill>
                  <a:srgbClr val="ff3300"/>
                </a:solidFill>
                <a:latin typeface="Times New Roman"/>
              </a:rPr>
              <a:t>Hard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&gt;&gt;&gt;   ID: 189 bat  Class: &lt;&lt;&lt;</a:t>
            </a:r>
            <a:r>
              <a:rPr b="1" lang="ru-RU" sz="2300" spc="-1" strike="noStrike">
                <a:solidFill>
                  <a:srgbClr val="bbe0e3"/>
                </a:solidFill>
                <a:latin typeface="Times New Roman"/>
              </a:rPr>
              <a:t>Soft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&gt;&gt;&gt; 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300" spc="-1" strike="noStrike">
                <a:solidFill>
                  <a:srgbClr val="7a50f2"/>
                </a:solidFill>
                <a:latin typeface="Times New Roman"/>
              </a:rPr>
              <a:t>Dur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61722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a50f2"/>
                </a:solidFill>
                <a:latin typeface="Times New Roman"/>
              </a:rPr>
              <a:t>Kazakhstanskaya rannespelay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6324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a50f2"/>
                </a:solidFill>
                <a:latin typeface="Times New Roman"/>
              </a:rPr>
              <a:t>Baty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228600" y="914400"/>
          <a:ext cx="8686800" cy="441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914400"/>
                    <a:ext cx="868680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85800" y="59436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- no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leas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3808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50f2"/>
                </a:solidFill>
                <a:latin typeface="Times New Roman"/>
              </a:rPr>
              <a:t>Table 2.</a:t>
            </a:r>
            <a:r>
              <a:rPr b="1" lang="ru-RU" sz="2000" spc="-1" strike="noStrike">
                <a:solidFill>
                  <a:srgbClr val="7a50f2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7a50f2"/>
                </a:solidFill>
                <a:latin typeface="Times New Roman"/>
              </a:rPr>
              <a:t>Kazakhstan wheat varieties classification: hardness +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380880" y="838080"/>
          <a:ext cx="5783400" cy="570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838080"/>
                    <a:ext cx="578340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6629400" y="4648320"/>
            <a:ext cx="25146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D:  5.5 + 10:  Akmola; Tselinnaya 24, Tselinograd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a50f2"/>
                </a:solidFill>
                <a:latin typeface="Times New Roman"/>
              </a:rPr>
              <a:t>Frequencies occurrences of HMW glutenin in Kazakhstan cultivars (Pena, Abugalieva, Mexico, 200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3124080" cy="25146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828800" y="838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CURRENT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STUDIES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15238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Kazakh-Siberian Nursery of Spring Wheat (genotype-environment intera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281952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application of the best wheat accessions from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Russia,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USA, China, Canada, and Kazakhsta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on grain quality in br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4572000"/>
            <a:ext cx="594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Characteristics of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grain quality genetic potential on composition of HMW and LMW glutenin subunits (in collaboration with CYMMIT-Mexico - Dr. J.R. PENA since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477120" y="1219320"/>
            <a:ext cx="24858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8076960" cy="4373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38080" y="4843440"/>
            <a:ext cx="739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20042"/>
                </a:solidFill>
                <a:latin typeface="Arial"/>
              </a:rPr>
              <a:t>Project of National Gene bank (storage) of Kazakhstan</a:t>
            </a:r>
            <a:r>
              <a:rPr b="0" lang="ru-RU" sz="1800" spc="-1" strike="noStrike">
                <a:solidFill>
                  <a:srgbClr val="a20042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20042"/>
                </a:solidFill>
                <a:latin typeface="Arial"/>
              </a:rPr>
              <a:t>1 – </a:t>
            </a:r>
            <a:r>
              <a:rPr b="0" lang="en-US" sz="1800" spc="-1" strike="noStrike">
                <a:solidFill>
                  <a:srgbClr val="a20042"/>
                </a:solidFill>
                <a:latin typeface="Arial"/>
              </a:rPr>
              <a:t>main section (storage and laboratory facilities)</a:t>
            </a:r>
            <a:r>
              <a:rPr b="0" lang="ru-RU" sz="1800" spc="-1" strike="noStrike">
                <a:solidFill>
                  <a:srgbClr val="a20042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20042"/>
                </a:solidFill>
                <a:latin typeface="Arial"/>
              </a:rPr>
              <a:t>2 – </a:t>
            </a:r>
            <a:r>
              <a:rPr b="0" lang="en-US" sz="1800" spc="-1" strike="noStrike">
                <a:solidFill>
                  <a:srgbClr val="a20042"/>
                </a:solidFill>
                <a:latin typeface="Arial"/>
              </a:rPr>
              <a:t>administration building</a:t>
            </a:r>
            <a:r>
              <a:rPr b="0" lang="ru-RU" sz="1800" spc="-1" strike="noStrike">
                <a:solidFill>
                  <a:srgbClr val="a20042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20042"/>
                </a:solidFill>
                <a:latin typeface="Arial"/>
              </a:rPr>
              <a:t>3 – </a:t>
            </a:r>
            <a:r>
              <a:rPr b="0" lang="en-US" sz="1800" spc="-1" strike="noStrike">
                <a:solidFill>
                  <a:srgbClr val="a20042"/>
                </a:solidFill>
                <a:latin typeface="Arial"/>
              </a:rPr>
              <a:t>hotel</a:t>
            </a:r>
            <a:r>
              <a:rPr b="0" lang="ru-RU" sz="1800" spc="-1" strike="noStrike">
                <a:solidFill>
                  <a:srgbClr val="a20042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a20042"/>
                </a:solidFill>
                <a:latin typeface="Arial"/>
              </a:rPr>
              <a:t>conference -hall</a:t>
            </a:r>
            <a:r>
              <a:rPr b="0" lang="ru-RU" sz="1800" spc="-1" strike="noStrike">
                <a:solidFill>
                  <a:srgbClr val="a20042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20042"/>
                </a:solidFill>
                <a:latin typeface="Arial"/>
              </a:rPr>
              <a:t>4 – </a:t>
            </a:r>
            <a:r>
              <a:rPr b="0" lang="en-US" sz="1800" spc="-1" strike="noStrike">
                <a:solidFill>
                  <a:srgbClr val="a20042"/>
                </a:solidFill>
                <a:latin typeface="Arial"/>
              </a:rPr>
              <a:t>greenhouse section</a:t>
            </a:r>
            <a:r>
              <a:rPr b="0" lang="ru-RU" sz="1800" spc="-1" strike="noStrike">
                <a:solidFill>
                  <a:srgbClr val="a20042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9000" y="380880"/>
            <a:ext cx="83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80044"/>
                </a:solidFill>
                <a:latin typeface="Arial"/>
              </a:rPr>
              <a:t>Таблица 2. Регламент использования белковых маркеров в селекции</a:t>
            </a:r>
            <a:r>
              <a:rPr b="0" lang="en-US" sz="1800" spc="-1" strike="noStrike">
                <a:solidFill>
                  <a:srgbClr val="a8004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3520" y="831960"/>
          <a:ext cx="8076960" cy="5703840"/>
        </p:xfrm>
        <a:graphic>
          <a:graphicData uri="http://schemas.openxmlformats.org/drawingml/2006/table">
            <a:tbl>
              <a:tblPr/>
              <a:tblGrid>
                <a:gridCol w="4038480"/>
                <a:gridCol w="403848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А. Качественный подход к использованию маркеров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 компонентов проламина, состав субъединиц глютенина, блок компонентов, состав энзимокодирующих аллелей выделение биотипов: гордеиновых, проламиновых; глютелиновых; энзимных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керный компонент; группы сцепления компонентов (блоки), энзимкодирующий локу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тическая сел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иминация биотип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чники и доноры хозяйственно-ценных признаков и свой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бор константных белковых аналог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коллекций изогенных линий и моделирование структуры сор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 воспроизводства сортов-популяц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страция оригинальной генетической структуры сорт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бор генотипов на конкретный признак качества, устойчивости  и т.д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ирование гибридных популяций на константность, гомозиготност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ирование ДГ-линий на рекомбинационную способность, идентификация плазмы диких сородич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Б. Количественный подход к использованию белковых марке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альбумина, глобулина, проламина, глютелина. Содержание аминокислот в суммарном бел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компонентов и субъединиц, активность энзим-субъедини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ение общей тенденции в сбалансированности суммарного бел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ение конечного использования зерна (ячмень: пивоваренное, кормовое, крупяное и т.д.; пшеницы: хлеб, кормовое и т.д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бор генотипов по содержанию незаменимых аминокисл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жирование генотипов по сбалансированности, интегральной технологической оцен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ение степени устойчивости генотипов к факторам внешней ср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ение озимости/яров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ение географического распределения адаптивных аллел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ноз отдельных показателей качества, биологических свойст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72520" y="380880"/>
            <a:ext cx="88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90ec7"/>
                </a:solidFill>
                <a:latin typeface="Arial"/>
              </a:rPr>
              <a:t>Использование молекулярных маркеров в селекции пшеницы на ка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907920"/>
            <a:ext cx="4392360" cy="1441440"/>
          </a:xfrm>
          <a:prstGeom prst="wedgeRoundRectCallout">
            <a:avLst>
              <a:gd name="adj1" fmla="val 36879"/>
              <a:gd name="adj2" fmla="val 67842"/>
              <a:gd name="adj3" fmla="val 16667"/>
            </a:avLst>
          </a:prstGeom>
          <a:solidFill>
            <a:srgbClr val="e0bd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0ec7"/>
                </a:solidFill>
                <a:latin typeface="Times New Roman Cyr"/>
              </a:rPr>
              <a:t>Состав компонентов глиадина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0ec7"/>
                </a:solidFill>
                <a:latin typeface="Times New Roman Cyr"/>
              </a:rPr>
              <a:t>Состав</a:t>
            </a:r>
            <a:r>
              <a:rPr b="1" lang="ru-RU" sz="1600" spc="-1" strike="noStrike">
                <a:solidFill>
                  <a:srgbClr val="000000"/>
                </a:solidFill>
                <a:latin typeface="Times New Roman Cyr"/>
              </a:rPr>
              <a:t> </a:t>
            </a:r>
            <a:r>
              <a:rPr b="1" lang="ru-RU" sz="1600" spc="-1" strike="noStrike">
                <a:solidFill>
                  <a:srgbClr val="090ec7"/>
                </a:solidFill>
                <a:latin typeface="Times New Roman Cyr"/>
              </a:rPr>
              <a:t>субъединиц глютенина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0ec7"/>
                </a:solidFill>
                <a:latin typeface="Times New Roman Cyr"/>
              </a:rPr>
              <a:t>Аллели энзим кодирующих локусов</a:t>
            </a:r>
            <a:r>
              <a:rPr b="1" lang="ru-RU" sz="1600" spc="-1" strike="noStrike">
                <a:solidFill>
                  <a:srgbClr val="090ec7"/>
                </a:solidFill>
                <a:latin typeface="Times New Roman Cyr"/>
              </a:rPr>
              <a:t> </a:t>
            </a:r>
            <a:r>
              <a:rPr b="1" lang="en-US" sz="1600" spc="-1" strike="noStrike">
                <a:solidFill>
                  <a:srgbClr val="090ec7"/>
                </a:solidFill>
                <a:latin typeface="Times New Roman Cyr"/>
              </a:rPr>
              <a:t>  </a:t>
            </a:r>
            <a:r>
              <a:rPr b="1" lang="ru-RU" sz="1600" spc="-1" strike="noStrike">
                <a:solidFill>
                  <a:srgbClr val="090ec7"/>
                </a:solidFill>
                <a:latin typeface="Times New Roman Cyr"/>
              </a:rPr>
              <a:t>(</a:t>
            </a:r>
            <a:r>
              <a:rPr b="1" lang="ru-RU" sz="1400" spc="-1" strike="noStrike">
                <a:solidFill>
                  <a:srgbClr val="090ec7"/>
                </a:solidFill>
                <a:latin typeface="Times New Roman Cyr"/>
              </a:rPr>
              <a:t>β-Amy, </a:t>
            </a:r>
            <a:r>
              <a:rPr b="1" lang="en-US" sz="1400" spc="-1" strike="noStrike">
                <a:solidFill>
                  <a:srgbClr val="090ec7"/>
                </a:solidFill>
                <a:latin typeface="Times New Roman Cyr"/>
              </a:rPr>
              <a:t>α-</a:t>
            </a:r>
            <a:r>
              <a:rPr b="1" lang="ru-RU" sz="1400" spc="-1" strike="noStrike">
                <a:solidFill>
                  <a:srgbClr val="090ec7"/>
                </a:solidFill>
                <a:latin typeface="Times New Roman Cyr"/>
              </a:rPr>
              <a:t>Amy, </a:t>
            </a:r>
            <a:r>
              <a:rPr b="1" lang="en-US" sz="1400" spc="-1" strike="noStrike">
                <a:solidFill>
                  <a:srgbClr val="090ec7"/>
                </a:solidFill>
                <a:latin typeface="Times New Roman Cyr"/>
              </a:rPr>
              <a:t>Prx, Est 5, Pgm, Mdh 1, etc</a:t>
            </a:r>
            <a:r>
              <a:rPr b="1" lang="en-US" sz="1600" spc="-1" strike="noStrike">
                <a:solidFill>
                  <a:srgbClr val="090ec7"/>
                </a:solidFill>
                <a:latin typeface="Times New Roman Cyr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0ec7"/>
                </a:solidFill>
                <a:latin typeface="Times New Roman Cyr"/>
              </a:rPr>
              <a:t>ДНК-марк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9640" y="1413000"/>
            <a:ext cx="1800360" cy="720720"/>
          </a:xfrm>
          <a:prstGeom prst="wedgeEllipseCallout">
            <a:avLst>
              <a:gd name="adj1" fmla="val 42240"/>
              <a:gd name="adj2" fmla="val 110574"/>
            </a:avLst>
          </a:prstGeom>
          <a:solidFill>
            <a:srgbClr val="efdd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ec7"/>
                </a:solidFill>
                <a:latin typeface="Times New Roman Cyr"/>
              </a:rPr>
              <a:t>Марк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64360" y="1341360"/>
            <a:ext cx="1800360" cy="863640"/>
          </a:xfrm>
          <a:prstGeom prst="wedgeEllipseCallout">
            <a:avLst>
              <a:gd name="adj1" fmla="val -44620"/>
              <a:gd name="adj2" fmla="val 90439"/>
            </a:avLst>
          </a:prstGeom>
          <a:solidFill>
            <a:srgbClr val="efdd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90ec7"/>
                </a:solidFill>
                <a:latin typeface="Times New Roman Cyr"/>
              </a:rPr>
              <a:t>Группы сцеп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6732000" y="3068280"/>
            <a:ext cx="719280" cy="287640"/>
          </a:xfrm>
          <a:custGeom>
            <a:avLst/>
            <a:gdLst>
              <a:gd name="textAreaLeft" fmla="*/ 112320 w 719280"/>
              <a:gd name="textAreaRight" fmla="*/ 623160 w 719280"/>
              <a:gd name="textAreaTop" fmla="*/ 76320 h 287640"/>
              <a:gd name="textAreaBottom" fmla="*/ 21132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728"/>
                </a:moveTo>
                <a:lnTo>
                  <a:pt x="15449" y="5728"/>
                </a:lnTo>
                <a:lnTo>
                  <a:pt x="15449" y="0"/>
                </a:lnTo>
                <a:lnTo>
                  <a:pt x="21600" y="10800"/>
                </a:lnTo>
                <a:lnTo>
                  <a:pt x="15449" y="21600"/>
                </a:lnTo>
                <a:lnTo>
                  <a:pt x="15449" y="15872"/>
                </a:lnTo>
                <a:lnTo>
                  <a:pt x="3375" y="15872"/>
                </a:lnTo>
                <a:close/>
              </a:path>
              <a:path w="21600" h="21600">
                <a:moveTo>
                  <a:pt x="0" y="5728"/>
                </a:moveTo>
                <a:lnTo>
                  <a:pt x="675" y="5728"/>
                </a:lnTo>
                <a:lnTo>
                  <a:pt x="675" y="15872"/>
                </a:lnTo>
                <a:lnTo>
                  <a:pt x="0" y="15872"/>
                </a:lnTo>
                <a:close/>
              </a:path>
              <a:path w="21600" h="21600">
                <a:moveTo>
                  <a:pt x="1350" y="5728"/>
                </a:moveTo>
                <a:lnTo>
                  <a:pt x="2700" y="5728"/>
                </a:lnTo>
                <a:lnTo>
                  <a:pt x="2700" y="15872"/>
                </a:lnTo>
                <a:lnTo>
                  <a:pt x="1350" y="15872"/>
                </a:lnTo>
                <a:close/>
              </a:path>
            </a:pathLst>
          </a:cu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42920" y="2708280"/>
            <a:ext cx="3745080" cy="337320"/>
          </a:xfrm>
          <a:prstGeom prst="rect">
            <a:avLst/>
          </a:prstGeom>
          <a:solidFill>
            <a:srgbClr val="e0bde1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90ec7"/>
                </a:solidFill>
                <a:uFillTx/>
                <a:latin typeface="Times New Roman Cyr"/>
              </a:rPr>
              <a:t>Выделение генотипов, биотип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2196000" y="3285000"/>
            <a:ext cx="360360" cy="216000"/>
          </a:xfrm>
          <a:custGeom>
            <a:avLst/>
            <a:gdLst>
              <a:gd name="textAreaLeft" fmla="*/ 56160 w 360360"/>
              <a:gd name="textAreaRight" fmla="*/ 315360 w 360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3645000"/>
            <a:ext cx="5113080" cy="27417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buClr>
                <a:srgbClr val="e836e4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Генетическая идентификация и  паспортизация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    </a:t>
            </a:r>
            <a:r>
              <a:rPr b="1" lang="en-US" sz="1400" spc="-1" strike="noStrike">
                <a:solidFill>
                  <a:srgbClr val="003399"/>
                </a:solidFill>
                <a:latin typeface="Times New Roman Cyr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сортов</a:t>
            </a:r>
            <a:r>
              <a:rPr b="0" lang="ru-RU" sz="1400" spc="-1" strike="noStrike">
                <a:solidFill>
                  <a:srgbClr val="003399"/>
                </a:solidFill>
                <a:latin typeface="Times New Roman Cy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buClr>
                <a:srgbClr val="e836e4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imes New Roman Cyr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Подбор родительских пар для гибрид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buClr>
                <a:srgbClr val="e836e4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imes New Roman Cyr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Аналитическая селек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e836e4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 Cyr"/>
              </a:rPr>
              <a:t> 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Доноры хозяйственно ценных признаков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   </a:t>
            </a:r>
            <a:r>
              <a:rPr b="1" lang="en-US" sz="1400" spc="-1" strike="noStrike">
                <a:solidFill>
                  <a:srgbClr val="003399"/>
                </a:solidFill>
                <a:latin typeface="Times New Roman Cyr"/>
              </a:rPr>
              <a:t> 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и свой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buClr>
                <a:srgbClr val="e836e4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 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Моделирование структуры с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buClr>
                <a:srgbClr val="e836e4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 Cyr"/>
              </a:rPr>
              <a:t> 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Контроль воспроизводства сортов-популя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e836e4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 Cyr"/>
              </a:rPr>
              <a:t> 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Элиминация генотипов, создание улучшенно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    </a:t>
            </a:r>
            <a:r>
              <a:rPr b="1" lang="en-US" sz="1400" spc="-1" strike="noStrike">
                <a:solidFill>
                  <a:srgbClr val="003399"/>
                </a:solidFill>
                <a:latin typeface="Times New Roman Cyr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эли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e836e4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 Cyr"/>
              </a:rPr>
              <a:t>  </a:t>
            </a:r>
            <a:r>
              <a:rPr b="1" lang="kk-KZ" sz="1400" spc="-1" strike="noStrike">
                <a:solidFill>
                  <a:srgbClr val="003399"/>
                </a:solidFill>
                <a:latin typeface="Times New Roman Cyr"/>
              </a:rPr>
              <a:t>В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ыявление чистоты и подлинности сортового </a:t>
            </a:r>
            <a:br>
              <a:rPr sz="1400"/>
            </a:b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    </a:t>
            </a:r>
            <a:r>
              <a:rPr b="1" lang="en-US" sz="1400" spc="-1" strike="noStrike">
                <a:solidFill>
                  <a:srgbClr val="003399"/>
                </a:solidFill>
                <a:latin typeface="Times New Roman Cyr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и семенного материала</a:t>
            </a:r>
            <a:r>
              <a:rPr b="1" lang="ru-RU" sz="1400" spc="-1" strike="noStrike">
                <a:solidFill>
                  <a:srgbClr val="090ec7"/>
                </a:solidFill>
                <a:latin typeface="Times New Roman Cyr"/>
              </a:rPr>
              <a:t> </a:t>
            </a:r>
            <a:r>
              <a:rPr b="1" lang="en-US" sz="1400" spc="-1" strike="noStrike">
                <a:solidFill>
                  <a:srgbClr val="090ec7"/>
                </a:solidFill>
                <a:latin typeface="Times New Roman Cyr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80000" y="3789360"/>
            <a:ext cx="3384720" cy="1865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buClr>
                <a:srgbClr val="e836e4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a0fe2"/>
                </a:solidFill>
                <a:latin typeface="Times New Roman Cyr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Отбор генотипов по качеству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зер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e836e4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Тестирование и отбор из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сортопопуляций</a:t>
            </a:r>
            <a:r>
              <a:rPr b="1" lang="en-US" sz="1400" spc="-1" strike="noStrike">
                <a:solidFill>
                  <a:srgbClr val="003399"/>
                </a:solidFill>
                <a:latin typeface="Times New Roman Cyr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e836e4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Times New Roman Cyr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Идентификация и           картирование </a:t>
            </a:r>
            <a:r>
              <a:rPr b="1" lang="en-US" sz="1400" spc="-1" strike="noStrike">
                <a:solidFill>
                  <a:srgbClr val="003399"/>
                </a:solidFill>
                <a:latin typeface="Times New Roman Cyr"/>
              </a:rPr>
              <a:t>QTL</a:t>
            </a:r>
            <a:r>
              <a:rPr b="1" lang="ru-RU" sz="1400" spc="-1" strike="noStrike">
                <a:solidFill>
                  <a:srgbClr val="003399"/>
                </a:solidFill>
                <a:latin typeface="Times New Roman Cyr"/>
              </a:rPr>
              <a:t>, связанных с устойчивостью, урожайностью и  качеством зер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0ca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95280" y="1268280"/>
          <a:ext cx="6480000" cy="2303640"/>
        </p:xfrm>
        <a:graphic>
          <a:graphicData uri="http://schemas.openxmlformats.org/drawingml/2006/table">
            <a:tbl>
              <a:tblPr/>
              <a:tblGrid>
                <a:gridCol w="358560"/>
                <a:gridCol w="1513080"/>
                <a:gridCol w="647640"/>
                <a:gridCol w="647640"/>
                <a:gridCol w="647640"/>
                <a:gridCol w="790560"/>
                <a:gridCol w="579600"/>
                <a:gridCol w="576000"/>
                <a:gridCol w="719280"/>
              </a:tblGrid>
              <a:tr h="43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С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Adh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Mdh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Mdh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6-Pgd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G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Est 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b-Am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Безенчукская 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a/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b/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Дамсинская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a/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79280" y="404640"/>
            <a:ext cx="896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af95f7"/>
                </a:solidFill>
                <a:uFillTx/>
                <a:latin typeface="Arial"/>
              </a:rPr>
              <a:t>Твердая пшеница</a:t>
            </a:r>
            <a:r>
              <a:rPr b="1" i="1" lang="en-US" sz="2200" spc="-1" strike="noStrike" u="sng">
                <a:solidFill>
                  <a:srgbClr val="af95f7"/>
                </a:solidFill>
                <a:uFillTx/>
                <a:latin typeface="Arial"/>
              </a:rPr>
              <a:t>..</a:t>
            </a:r>
            <a:r>
              <a:rPr b="1" lang="en-US" sz="2400" spc="-1" strike="noStrike">
                <a:solidFill>
                  <a:srgbClr val="420fd1"/>
                </a:solidFill>
                <a:latin typeface="Arial"/>
              </a:rPr>
              <a:t> </a:t>
            </a:r>
            <a:r>
              <a:rPr b="0" i="1" lang="en-US" sz="2600" spc="-1" strike="noStrike" u="sng">
                <a:solidFill>
                  <a:srgbClr val="7a50f2"/>
                </a:solidFill>
                <a:uFillTx/>
                <a:latin typeface="Arial"/>
              </a:rPr>
              <a:t>Молекулярные маркеры -</a:t>
            </a:r>
            <a:r>
              <a:rPr b="1" i="1" lang="en-US" sz="3200" spc="-1" strike="noStrike" u="sng">
                <a:solidFill>
                  <a:srgbClr val="7a50f2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7a50f2"/>
                </a:solidFill>
                <a:uFillTx/>
                <a:latin typeface="Arial"/>
              </a:rPr>
              <a:t>Изофермент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36000" y="2637000"/>
            <a:ext cx="1584000" cy="946440"/>
          </a:xfrm>
          <a:prstGeom prst="rect">
            <a:avLst/>
          </a:prstGeom>
          <a:solidFill>
            <a:srgbClr val="bbe0e3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 Cyr"/>
              </a:rPr>
              <a:t>Генетическая идентификация и паспортизация сор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36000" y="1268280"/>
            <a:ext cx="1584000" cy="733320"/>
          </a:xfrm>
          <a:prstGeom prst="rect">
            <a:avLst/>
          </a:prstGeom>
          <a:solidFill>
            <a:srgbClr val="bbe0e3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 Cyr"/>
              </a:rPr>
              <a:t>Подбор родительских пар для гибрид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0000" y="5950080"/>
            <a:ext cx="1584360" cy="307080"/>
          </a:xfrm>
          <a:prstGeom prst="rect">
            <a:avLst/>
          </a:prstGeom>
          <a:solidFill>
            <a:srgbClr val="e2c5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 Cyr"/>
              </a:rPr>
              <a:t>Кластер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64360" y="4149720"/>
            <a:ext cx="1584360" cy="1159560"/>
          </a:xfrm>
          <a:prstGeom prst="rect">
            <a:avLst/>
          </a:prstGeom>
          <a:solidFill>
            <a:srgbClr val="e2c5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 Cyr"/>
              </a:rPr>
              <a:t>Генетические расстояния и оценка генетического разнообр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00720" y="4076640"/>
            <a:ext cx="1584000" cy="520200"/>
          </a:xfrm>
          <a:prstGeom prst="rect">
            <a:avLst/>
          </a:prstGeom>
          <a:solidFill>
            <a:srgbClr val="0099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 Cyr"/>
              </a:rPr>
              <a:t>Внутрисортовой отб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5013360"/>
            <a:ext cx="1584360" cy="946440"/>
          </a:xfrm>
          <a:prstGeom prst="rect">
            <a:avLst/>
          </a:prstGeom>
          <a:solidFill>
            <a:srgbClr val="e2c5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 Cyr"/>
              </a:rPr>
              <a:t>Контроль генетической целостности с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95280" y="3933720"/>
          <a:ext cx="3809880" cy="26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3933720"/>
                    <a:ext cx="3809880" cy="2691000"/>
                  </a:xfrm>
                  <a:prstGeom prst="rect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492360" y="3645000"/>
            <a:ext cx="1150920" cy="360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948360" y="2060280"/>
            <a:ext cx="21600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48360" y="2565360"/>
            <a:ext cx="21600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3418800">
            <a:off x="6716880" y="3587040"/>
            <a:ext cx="287280" cy="1266840"/>
          </a:xfrm>
          <a:custGeom>
            <a:avLst/>
            <a:gdLst>
              <a:gd name="textAreaLeft" fmla="*/ 0 w 287280"/>
              <a:gd name="textAreaRight" fmla="*/ 103680 w 287280"/>
              <a:gd name="textAreaTop" fmla="*/ 32760 h 1266840"/>
              <a:gd name="textAreaBottom" fmla="*/ 1234080 h 12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85080" y="5445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304920"/>
            <a:ext cx="830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50f2"/>
                </a:solidFill>
                <a:latin typeface="Arial"/>
              </a:rPr>
              <a:t>Генетическая идентификация и классификация качества зерна сортов озимой мягкой пшеницы.</a:t>
            </a:r>
            <a:r>
              <a:rPr b="0" lang="en-US" sz="1400" spc="-1" strike="noStrike">
                <a:solidFill>
                  <a:srgbClr val="7a50f2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80880" y="914400"/>
          <a:ext cx="8458200" cy="5840280"/>
        </p:xfrm>
        <a:graphic>
          <a:graphicData uri="http://schemas.openxmlformats.org/drawingml/2006/table">
            <a:tbl>
              <a:tblPr/>
              <a:tblGrid>
                <a:gridCol w="1027080"/>
                <a:gridCol w="586080"/>
                <a:gridCol w="587160"/>
                <a:gridCol w="1295640"/>
                <a:gridCol w="728640"/>
                <a:gridCol w="655560"/>
                <a:gridCol w="920520"/>
                <a:gridCol w="671760"/>
                <a:gridCol w="920520"/>
                <a:gridCol w="1065240"/>
              </a:tblGrid>
              <a:tr h="246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a20042"/>
                          </a:solidFill>
                          <a:latin typeface="Times New Roman"/>
                          <a:ea typeface="Times New Roman"/>
                        </a:rPr>
                        <a:t>Сор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a20042"/>
                          </a:solidFill>
                          <a:latin typeface="Times New Roman"/>
                          <a:ea typeface="Times New Roman"/>
                        </a:rPr>
                        <a:t>Тверд-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a20042"/>
                          </a:solidFill>
                          <a:latin typeface="Times New Roman"/>
                          <a:ea typeface="Times New Roman"/>
                        </a:rPr>
                        <a:t>Ти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a20042"/>
                          </a:solidFill>
                          <a:latin typeface="Times New Roman"/>
                          <a:ea typeface="Times New Roman"/>
                        </a:rPr>
                        <a:t>Глютен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a20042"/>
                          </a:solidFill>
                          <a:latin typeface="Times New Roman"/>
                          <a:ea typeface="Times New Roman"/>
                        </a:rPr>
                        <a:t>ВМ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a20042"/>
                          </a:solidFill>
                          <a:latin typeface="Times New Roman"/>
                          <a:ea typeface="Times New Roman"/>
                        </a:rPr>
                        <a:t>Ранг НМ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a20042"/>
                          </a:solidFill>
                          <a:latin typeface="Times New Roman"/>
                          <a:ea typeface="Times New Roman"/>
                        </a:rPr>
                        <a:t>ВМС+НМ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са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. тверд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+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+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ма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з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+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+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а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з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+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+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тын Мас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з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+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тж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з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+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+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ты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г-коз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*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+9/7+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+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са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з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+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+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ян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 твз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*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+9/7+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+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+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+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остая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сь твз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+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+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1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арная 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сь твз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*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*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+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+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+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+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бе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сь твз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+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+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лы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з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*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+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+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тыс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 мягкоз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з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+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+8/7+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+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+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лыга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сь твз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+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+9/7+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+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+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кбида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 твз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+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+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кс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 мягкоз. твз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+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+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+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+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45720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ec7"/>
                </a:solidFill>
                <a:latin typeface="Times New Roman Cyr"/>
              </a:rPr>
              <a:t>Результаты использования молекулярных маркеров в селе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990720"/>
            <a:ext cx="8458200" cy="54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90ec7"/>
                </a:solidFill>
                <a:latin typeface="Arial"/>
              </a:rPr>
              <a:t>Обоснован и разработан регламент использования различных типов генетических маркеров - морфологические, запасные белки, ферменты, ДНК (Авт. с. ИНСО № 348, 199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90ec7"/>
                </a:solidFill>
                <a:latin typeface="Arial"/>
              </a:rPr>
              <a:t>Он апробирован в селекции, испытании и регистрации созданием в соавторст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836e4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0066"/>
                </a:solidFill>
                <a:latin typeface="Arial"/>
              </a:rPr>
              <a:t>Сортов озимой мягкой пшениц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90ec7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90ec7"/>
                </a:solidFill>
                <a:latin typeface="Arial"/>
              </a:rPr>
              <a:t>Анюта, 1995 (Кожемякин Е.В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90ec7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90ec7"/>
                </a:solidFill>
                <a:latin typeface="Arial"/>
              </a:rPr>
              <a:t>Актерекская, 1995, районирован в 2004 г. в Алматинской об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90ec7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90ec7"/>
                </a:solidFill>
                <a:latin typeface="Arial"/>
              </a:rPr>
              <a:t>Кастекская, 1996 (Кожемякин Е.В.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90ec7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90ec7"/>
                </a:solidFill>
                <a:latin typeface="Arial"/>
              </a:rPr>
              <a:t>Алтыншаш, 1998 (Кожемякин Е.В.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90ec7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90ec7"/>
                </a:solidFill>
                <a:latin typeface="Arial"/>
              </a:rPr>
              <a:t>ОПАКС-58, 1998 (Кожемякин Е.В.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0066"/>
                </a:solidFill>
                <a:latin typeface="Arial"/>
              </a:rPr>
              <a:t>Сорта яровой твердой пшеницы</a:t>
            </a:r>
            <a:r>
              <a:rPr b="1" i="1" lang="ru-RU" sz="1400" spc="-1" strike="noStrike">
                <a:solidFill>
                  <a:srgbClr val="090ec7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90ec7"/>
                </a:solidFill>
                <a:latin typeface="Arial"/>
              </a:rPr>
              <a:t>   </a:t>
            </a:r>
            <a:r>
              <a:rPr b="1" i="1" lang="ru-RU" sz="1400" spc="-1" strike="noStrike">
                <a:solidFill>
                  <a:srgbClr val="090ec7"/>
                </a:solidFill>
                <a:latin typeface="Arial"/>
              </a:rPr>
              <a:t>Каргала 9, </a:t>
            </a:r>
            <a:r>
              <a:rPr b="1" lang="ru-RU" sz="1400" spc="-1" strike="noStrike">
                <a:solidFill>
                  <a:srgbClr val="090ec7"/>
                </a:solidFill>
                <a:latin typeface="Arial"/>
              </a:rPr>
              <a:t>2000,  районирован в 2004 (Цыганков И., Цыганков В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Сорта ярового и озимого ячменя</a:t>
            </a:r>
            <a:r>
              <a:rPr b="1" lang="ru-RU" sz="1400" spc="-1" strike="noStrike">
                <a:solidFill>
                  <a:srgbClr val="090ec7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90ec7"/>
                </a:solidFill>
                <a:latin typeface="Arial"/>
              </a:rPr>
              <a:t>    </a:t>
            </a:r>
            <a:r>
              <a:rPr b="1" i="1" lang="ru-RU" sz="1400" spc="-1" strike="noStrike">
                <a:solidFill>
                  <a:srgbClr val="090ec7"/>
                </a:solidFill>
                <a:latin typeface="Arial"/>
              </a:rPr>
              <a:t>Туран 2, </a:t>
            </a:r>
            <a:r>
              <a:rPr b="1" lang="ru-RU" sz="1400" spc="-1" strike="noStrike">
                <a:solidFill>
                  <a:srgbClr val="090ec7"/>
                </a:solidFill>
                <a:latin typeface="Arial"/>
              </a:rPr>
              <a:t>2000, районирован в 2004 (Сариев Б.С.)</a:t>
            </a:r>
            <a:r>
              <a:rPr b="1" i="1" lang="ru-RU" sz="1400" spc="-1" strike="noStrike">
                <a:solidFill>
                  <a:srgbClr val="090ec7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90ec7"/>
                </a:solidFill>
                <a:latin typeface="Arial"/>
              </a:rPr>
              <a:t>    </a:t>
            </a:r>
            <a:r>
              <a:rPr b="1" i="1" lang="ru-RU" sz="1400" spc="-1" strike="noStrike">
                <a:solidFill>
                  <a:srgbClr val="090ec7"/>
                </a:solidFill>
                <a:latin typeface="Arial"/>
              </a:rPr>
              <a:t>Тлек,</a:t>
            </a:r>
            <a:r>
              <a:rPr b="1" lang="ru-RU" sz="1400" spc="-1" strike="noStrike">
                <a:solidFill>
                  <a:srgbClr val="090ec7"/>
                </a:solidFill>
                <a:latin typeface="Arial"/>
              </a:rPr>
              <a:t> 2004 (Ортаев А., Мусабаев С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90ec7"/>
                </a:solidFill>
                <a:latin typeface="Arial"/>
              </a:rPr>
              <a:t>   </a:t>
            </a:r>
            <a:r>
              <a:rPr b="1" i="1" lang="ru-RU" sz="1400" spc="-1" strike="noStrike">
                <a:solidFill>
                  <a:srgbClr val="ff0066"/>
                </a:solidFill>
                <a:latin typeface="Arial"/>
              </a:rPr>
              <a:t>Сортов рис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90ec7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90ec7"/>
                </a:solidFill>
                <a:latin typeface="Arial"/>
              </a:rPr>
              <a:t>ПакЛи, 1998, районирован в 2003 (Пак Н.А., Ли Г.Е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90ec7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90ec7"/>
                </a:solidFill>
                <a:latin typeface="Arial"/>
              </a:rPr>
              <a:t>Опытное, 2001  (Пак Н.А., Ли Г.Е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90ec7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90ec7"/>
                </a:solidFill>
                <a:latin typeface="Arial"/>
              </a:rPr>
              <a:t>Заря, 2001 (Пак Н.А., Ли Г.Е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90ec7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90ec7"/>
                </a:solidFill>
                <a:latin typeface="Arial"/>
              </a:rPr>
              <a:t>Суар, 2003 (Пак Н.А., Ли Г.Е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90ec7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90ec7"/>
                </a:solidFill>
                <a:latin typeface="Arial"/>
              </a:rPr>
              <a:t>Мадина, 2001 (Седловский А.И., Таранов О.Н., Мамонов Л.Н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Схема сбора данных по регистрации (А) и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характеристике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генофонда ячменя (Б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93720" y="1976400"/>
          <a:ext cx="7846920" cy="5186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720" y="1976400"/>
                    <a:ext cx="784692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533520" y="0"/>
          <a:ext cx="8229600" cy="7634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0"/>
                    <a:ext cx="8229600" cy="76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04-03T10:06:1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